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B44B-0CF5-4889-9B45-54342A9D6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peaker icon is a different s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B69-43D8-4C08-8F3E-61C09D90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9D3-F1A7-4485-905C-D5F1779A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74F-5C04-4E47-9745-B2972DC7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C00-F80B-4E4B-9534-A6324E9F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C9730-F62F-4BBC-AFB3-64E2BDA0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952C5-8BC6-4B16-9AFB-F831FD35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C631D-2E1C-48FC-88B6-61933797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6B2CA-6E1D-4A92-A85F-C000A255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1A1C3-C108-450F-8896-F09E7286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84BC8-AE34-4FAE-A543-FE0C37EA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B4327-4D34-45B0-A92A-57AF2D53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F3E-749D-45E5-A478-31E14B85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218A6-CAAD-41D8-BDE1-C66FAD84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DB7D1-8D4F-4B79-8137-E612115D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21B51-4D0E-4E95-B5BF-3D7F00B6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05FA0-02B6-4504-888E-2167103A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EC25D-584D-439A-AEE3-55F0F23D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B74-42F4-47C7-9A66-E5B7C61C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EE5-948D-4038-A3D2-64A701CC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FEB-FDD4-4A42-86EB-E395D6E8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9A4-64DC-4587-A47E-60C1CD92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95B-C17F-4E1A-A20E-38A6DEC6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058-492D-4C72-8FED-1AF7FA0B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D13-BB8A-4D46-A1DA-63BB6DB8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6607-AD19-474F-9651-4D547C234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4632-D6F8-409D-A09E-E8383F209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4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ifles Soundtrack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he Icons for se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1279440" cy="1152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09480" y="4876920"/>
            <a:ext cx="1279800" cy="115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7315200" y="4876920"/>
            <a:ext cx="1279440" cy="115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7391520" y="1676520"/>
            <a:ext cx="127944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419720" y="3581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5562720" y="1066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3352680" y="114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2743200" y="4952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594360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189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962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60368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10787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0057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4:55:26Z</dcterms:created>
  <dc:creator>LILLYA GLENN</dc:creator>
  <dc:description/>
  <dc:language>en-US</dc:language>
  <cp:lastModifiedBy>LILLYA GLENN</cp:lastModifiedBy>
  <dcterms:modified xsi:type="dcterms:W3CDTF">2008-04-07T16:00:49Z</dcterms:modified>
  <cp:revision>4</cp:revision>
  <dc:subject/>
  <dc:title>Trifles Soundtrack</dc:title>
</cp:coreProperties>
</file>